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147A-88E0-42A6-BCF3-76749957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D26E-424A-4178-8BED-755A3863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8A2-B081-40D6-A09A-169F10D8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58B-3172-43F1-9969-B668157A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A6D5-C04D-467C-BDB5-4F273760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FEA0-67AA-41D1-B051-E2D17B7A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B8DB-3870-4397-BD24-B5DC5A72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3A33-A591-45FA-A13C-E8531BFE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DED0-E8D1-413D-94B6-CA31A53E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8C01-CFFA-418E-A80A-2BA51EDA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FEC-0667-40E1-A870-E3026E6E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20B6-08A1-4545-959F-5C7AFFF4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E863-3202-4C99-8B91-4679AB4E7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Nature of Liqu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y: George X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Jenny Mil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lan J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sia Fran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quid and K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MT: Kinetic Molecular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rding to the KMT, Liquids particles are attracted to each other, creating a denser solu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por Pres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por Pressure is the force exerted by a gas above a liqui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MT affects Vapor Pressure since the molecular kinetic energy is greater at higher temperature, more molecules can escape the surface and the saturated vapor pressure is correspondingly hig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sure vs. Vapor Pres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is the force exerted by a gas above the surface area of a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por Pressure is the force exerted by a gas above a liqu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poration: A conversion of a liquid to gas when it is not boi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porization: Conversion of a liquid to gas or vap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iling: When a liquid is heated to a temperature at which particles throughout te liquid have enough knetic energy to vapor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2:49:11Z</dcterms:created>
  <dc:creator>14ajia</dc:creator>
  <dc:description/>
  <dc:language>en-US</dc:language>
  <cp:lastModifiedBy>\</cp:lastModifiedBy>
  <dcterms:modified xsi:type="dcterms:W3CDTF">2012-04-26T13:17:48Z</dcterms:modified>
  <cp:revision>6</cp:revision>
  <dc:subject/>
  <dc:title>The Nature of Liquids</dc:title>
</cp:coreProperties>
</file>